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819-412D-4AC6-8AAB-F17EA19F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BBC-B3F8-4EC3-B57A-EC3591F2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6C103-7771-4781-88E8-DD67833C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2046B-F4FA-407A-A255-37D1E697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38C8B-0B76-4517-A356-1F541490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8378B-CA8B-4C12-B2DA-044E957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9DF83-553C-443A-BDD7-B4B1386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E6B91-64EB-422B-BD05-F65E115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DB4F4-6B33-4C0D-97C9-C5D67334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A6981-2AEA-47F4-BB5A-EFF2A55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853E6-5E8F-4064-81FC-6B5AFF27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8AD8E-4C7F-4ABA-A6D5-AB8C93F0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6D7-000F-4B88-97E7-F73635DB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6B4D1-B21D-4111-BF7F-A024BEE6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79756-BD1F-42D8-8F98-53D76F4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36A25-964E-4ECC-A4D0-7D4F0310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9F1E3-D44F-4B95-8CE3-A0FCD086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B7534-EEB3-494E-B491-BF94FB4B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8A6D3-4ECC-4AA3-8D65-3685D0E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6CC25-0370-4BED-943F-1785B86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A245B-321E-45D5-8764-EAC283E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BF6B4-0EF7-487A-8966-E98356B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EF982-BC57-4434-9BA2-91A81A08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025-F429-4BC5-BB56-0C89B2B5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93216-47B6-40F5-970B-15422B54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05E21-A45D-4B70-A9E8-E67CCACA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0927-C426-41EC-979B-B4E271BF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F043-BC93-4691-9DD5-AD7580E6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E656-214D-4E7C-B72B-6B89051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49E6A-70BB-43CB-B406-4EC2A6AA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1531B-FDE6-48FC-9F2C-78FAC155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2AFF1-E7A4-4828-A5E9-FFE8F70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AC375-7BD4-4282-855B-5340684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14000-893A-46F2-907F-4E9770EF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5054-58C7-409E-B574-0A1A4D56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ABF62-B796-4A45-8AB6-4B3931E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C19FA-E67E-4396-B951-E3D535C2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8BE07-6D88-4118-A1BC-DD1E967F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A9534-9F54-49BA-8813-EA420BB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5D289-2969-473B-A9E7-FCB109C3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154F0-EBF3-4710-A5E3-823C0C33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629D1-88D2-4D79-8913-894B0A8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820EC-4FD0-457F-BB54-1CEDD4B5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EC168-876A-42C0-8F91-DFC98351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F51CC-3940-4BA2-BDA0-493F9D3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5DA3-6EA1-456B-BAB7-4FC1E478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8DFE1-7698-440A-A621-C82366D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E4567-01B2-4E14-A0C0-07EBC767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EE81C-1E85-4429-A609-50C13BB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47B7A-9750-434A-BDCA-3A8DB1D2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38A8E-7B56-430E-A9CE-46581B27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3280-F29A-4671-9A89-CBDAA21A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8D94-D3AC-4C35-9B25-FE247689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5FF-E38F-494E-A4C1-6BC90210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284F-185C-4A2C-A0F7-371B945B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1CFD-4140-405F-B536-90AFDE40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FA7-5A68-4E3D-8CFA-38E0A45D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B6B9-19BF-491F-88C4-74E0563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584B-A845-41C4-ADB7-E32846F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D1A3-8E24-410E-B228-BDA7D483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ECCE-C470-4B00-A620-1DC92B28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2ABC-8021-4566-8C42-5022E058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9A77-0122-44E6-896E-4FB0EFB5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088B-1199-4C9B-BAAF-56EA242D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2045-7ED2-4E5F-B2AA-D04284B7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9E1F-110A-480E-B7CC-B0C19A30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185F-925E-49E1-83C4-CE69998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657-8E7B-46F3-825E-F0370AC2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0911-E83E-47F2-BE67-CE6DB954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FE4E-5CBD-41EF-A258-096A67F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9F6D-C261-48EE-843F-DAA7FC8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2EC1-22BB-40D9-8188-C4632F2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5057-2D84-44C5-B5AA-A945C7D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37EF-5FA6-467E-B518-66BE5370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A4BD-57BA-4095-9948-61332DBE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D4E0-0576-4C22-9523-52F5058C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D9A2-AA68-40BA-BBE5-AA691E05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87B7-594F-45B7-BCE2-B189D7A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8DC-9B6C-4227-82E7-1CC10C6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86E0-1E29-4312-8DC7-7D79F38E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F82B-0B31-4084-9B47-72DF78DA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2A92-E4A2-4BA6-86F2-761C0459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2AD6-DF34-448D-9CF2-78957C1F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11672-E2C2-431C-AA16-DF8B268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7D99-0B99-4D6C-BA66-20D972D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2621B-F10A-469C-B438-CCAAADA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56A6-1697-46D3-BAF5-94E93380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2689C-6484-4414-8733-6E2CCF53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B8E70-498E-44BD-B403-3586A377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72C-3024-4AEF-8951-8246004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A75F-6EA0-4A4C-A299-864B8F0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DB801-A636-4AB1-ABE7-90B0CEE7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C1B69-174B-40AA-915F-4D2A9A5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008B-DF5A-4F49-9545-97FD9630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D112-F06E-4825-8D36-11DD6CC3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A8FDB-CB70-45CD-9826-F8605D0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213E-2F2D-465D-BD6C-38D0677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6B23F-F092-40A7-A498-FE180DB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8645-B8BE-47BD-BD33-1E6922F5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6923D-E88E-4A10-B274-8D7D1F09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450-9300-401B-8C5A-E4A40B0A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26D0-725C-4585-BBC2-81AF3385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36E7B-A1BC-4653-8A79-5B88B7F3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3930-87FB-4524-B07B-DEF99C3B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51B01-4C75-4D1E-9F9A-977BA9A6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78DD-11BF-431A-A871-D09EA9CB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3B33C-4D96-4A8E-B4EB-5AFB1B23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A1C4-C522-4C3D-9064-76172F2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F06E-27CB-4320-90EE-C444AA1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6A05-2840-40E4-8A57-8C49FEAC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23D43-7EF6-41D0-BE01-18E959C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321-6072-48BF-B191-B749E1F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ACC8-6043-4ECC-95F3-6D565933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8C4F5-15D3-4206-BD69-B450A38A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33C9-9818-4D29-977A-2F84ADB1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33CFC-B4CA-4765-942C-77BAC9B2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5B54-E525-4227-8815-A928FB2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F7E5A-8436-4E3F-B8C3-C5606402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8BBE6-464C-45D9-8C51-9237C4A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94A8-A16E-480D-AF09-E0392D5A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C1F89-284B-4E45-8D2A-377C5BC5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E6D56-8073-48BA-ADE1-3202504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F32-A981-474A-9B31-D8B0B57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C0A3B-92E2-4D79-A499-271D349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3DBF-0B00-4193-9E04-D8D360BA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5D792-88C7-4DD0-A49F-E41476F7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C44BC-AA44-47F2-BCE2-4D7410A4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D5C18-388A-442D-89E3-68177163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7E2B1-C447-4953-B84B-85DA4181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1C4A3-1812-425C-A425-AE58D8F6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EEA37-3BC3-4C0F-82EA-F278475C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A5A89-B160-4CC9-8541-D35E6A3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1EB03-EFCB-40C4-95B0-11881557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8BA-8436-4395-80F6-23E8189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6F14-2DFF-4390-B136-5151294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26D55-533B-4798-BCD0-FBE7F3A2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E5FA2-C61F-4DCC-92E2-52AEB616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627F3-38C7-4EB2-B371-BE002C3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2D913-3A14-42AF-A722-0D9DD35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75D46-731C-4661-BBDE-C7FFF625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EF39-A94A-4BD1-BA9E-E23FF3CE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DBE32-8358-4C89-ABA4-796D5910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53362-3D0A-4E4E-BA5E-6ABE0F1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169C3-5297-4A6B-B003-960DB17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A06E-8A39-4345-8E6B-D14B5985FE66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8543-8DA8-45E5-9648-28D6B50253E2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3AD-C2C7-4ACA-ADF8-ED54A2029FCC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1752-9F50-4CB2-AF6E-DEE98B136F50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75B2-3B36-4141-B7B2-2C6451637E66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91FE-E6F4-408F-8543-DD1776023BC9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B9AD-005C-4E11-B37C-589EC77FD8B3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7AF7-0ABE-40BF-80B6-9370D82EDF39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6B6-8039-46E7-9142-0EDA87392F6B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4042-7CB1-4926-8B43-DA750348B8BD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2A13-1EF9-4B7D-8257-C20BB35DBE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41D8-E3B1-4CA1-96F3-03F64580B4BC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42840" y="43434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232"/>
                </a:solidFill>
                <a:latin typeface="Georgia"/>
              </a:rPr>
              <a:t>2014 305(B) REPORT TO CONGRES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232"/>
                </a:solidFill>
                <a:latin typeface="Georgia"/>
              </a:rPr>
              <a:t>THIS IS AN INFORMATIONAL AGENDA ITE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b587c"/>
                </a:solidFill>
                <a:latin typeface="Georgia"/>
              </a:rPr>
              <a:t>Report of the 305b Workgroup</a:t>
            </a:r>
            <a:endParaRPr b="0" lang="en-US" sz="4200" spc="-1" strike="noStrike">
              <a:solidFill>
                <a:srgbClr val="164c6c"/>
              </a:solidFill>
              <a:latin typeface="Georgia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152280" y="4240080"/>
            <a:ext cx="2355840" cy="2160720"/>
            <a:chOff x="152280" y="4240080"/>
            <a:chExt cx="2355840" cy="2160720"/>
          </a:xfrm>
        </p:grpSpPr>
        <p:pic>
          <p:nvPicPr>
            <p:cNvPr id="609" name="Picture 4" descr="Colored Logo ORSANCO.jpg"/>
            <p:cNvPicPr/>
            <p:nvPr/>
          </p:nvPicPr>
          <p:blipFill>
            <a:blip r:embed="rId1"/>
            <a:srcRect l="13509" t="21995" r="13521" b="0"/>
            <a:stretch/>
          </p:blipFill>
          <p:spPr>
            <a:xfrm>
              <a:off x="152280" y="4240080"/>
              <a:ext cx="234900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Rectangle 5"/>
            <p:cNvSpPr/>
            <p:nvPr/>
          </p:nvSpPr>
          <p:spPr>
            <a:xfrm>
              <a:off x="2105640" y="4240080"/>
              <a:ext cx="402480" cy="3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>
              <a:off x="152280" y="4240080"/>
              <a:ext cx="402480" cy="3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ommittee met by conference call July 30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6 mainstem states and EPA Region 5 participat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vered methodology for each of the use assessm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ed schedu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cussed policy on use of outside data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Use Assessments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6900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Uses include aquatic life, contact recreation, public water supply, &amp; fish consumptio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tinue weight of evidence approach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Aquatic life criteria violations for iron, but biological data indicates full support.  ORSANCO does not have iron criterion and WV’s iron criterion is questionable for the Ohio River.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Utilize EPA methodology for fish consumption mercury assessment modified slightly for use of outside data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Multiple TL3 &amp; TL4 species in every pool. TL2 not commonly consumed in Ohio River.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Don’t give more weight to species with greater number of samples.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Impaired for PCBs &amp; dioxin based on historic high volume data.</a:t>
            </a: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Use Assessments (cont.)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tact Recreation Assess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Use most stringent bacteria criterion applicable to Ohio River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ORSANCO’s criterion less stringent than states’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ublic Water Supp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Access EPA data on finished water MCL violations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Impairment indicated for MCL violations resulting from source water conditions (excludes TTHMs)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tilize 5 years recent years of data plus older assessments that haven’t been redone (bacteria longitudinal surveys, PCBs &amp; dioxin high volume data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Schedul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e assessments before year-e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sessments approved by TEC at February meet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aft report for June TEC meet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Use of Outside Data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ed a protocol with input from 305b coordinato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Data must meet minimum QA requirements QA/QC objectives contained in ORSANCO’s program QAPPs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All QA/QC data/reports must be submitted with data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Monitoring plan with objectives must accompany data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tocol and call for outside data on Commission’s website &amp; news fe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09"/>
                </a:solidFill>
                <a:latin typeface="Georgia"/>
              </a:rPr>
              <a:t>Questions?</a:t>
            </a:r>
            <a:endParaRPr b="0" lang="en-US" sz="4200" spc="-1" strike="noStrike">
              <a:solidFill>
                <a:srgbClr val="164c6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9:37:45Z</dcterms:created>
  <dc:creator>jwisenall</dc:creator>
  <dc:description/>
  <dc:language>en-US</dc:language>
  <cp:lastModifiedBy>jklear</cp:lastModifiedBy>
  <dcterms:modified xsi:type="dcterms:W3CDTF">2013-10-15T15:14:29Z</dcterms:modified>
  <cp:revision>74</cp:revision>
  <dc:subject/>
  <dc:title>Slide 1</dc:title>
</cp:coreProperties>
</file>